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2AC89-73E5-4CDB-BC7B-36A53DA13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F68F8-CA4A-4C04-88E9-4DF4826ED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BFDFB-3C7D-4285-B889-C654B16AC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nd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xplain the 7 categories in the Stages of Co-Teaching (self-assessment).  Have participants do this individually.  Afterwards, have them complete the reflection on the bottom of the sheet about what it means for them and where they are on the spectr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13BF0-1C92-4229-A92E-1B8F13CC1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83377-F9CC-40AD-A2F4-E8B967B8D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N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Refer teachers to back of Stages of Co-Teaching Handout…If one of you is doing this…the other can be doing this…Have them 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chart paper at their table…think of their own experiences/Challenge them to come up with 3 more examples(If…THEN) for co-teachers…share out a few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 idea…everyone is working to meet the needs of the students…no idle hands or mind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64948-B3FC-4BD7-B63C-08B7A3C68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nstr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– (KELLY) Have participants find a partner (general ed with special ed).  Have students will go to the wikispace to go to the website (for sample co-teaching lesson plans).  Explain the note-taking sheet and how they are to use it in the lab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teachers hang their metaph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AA0C6-0B00-4FA2-B412-66A406B4C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o Inspiration/brainstorm as a group (Kelly) One teach/One ass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o saved template to make a compar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8755B-BC3A-4192-BF79-4BA1D86BE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KELLY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person’s lesson plan / co-teaching planning form (use IEPs from both peop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70487-DC08-43EB-9E21-1BCFC6E5A5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E91AB-823A-40BD-B359-515AC4DDA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F003E-5CB0-496C-B85F-CCA26956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7B0DC-034E-4F15-ADEA-FE1D033409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CCBE5-596C-4049-B2E0-1153B7336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1A4F3-03FC-4245-B5DD-09C2ADC8E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D7730-E1B6-42B3-BB4F-1ABF02BF8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6EFA8-0A52-47FE-BEF9-A745160E6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12135-02F1-46D4-983C-BB040E2EE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5BC15-548A-4C8B-AFC4-6F07810D1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0A81A-E19C-4C0B-987A-D7485E234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59348-0816-45D8-9C04-E166D3D66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8" descr="red-sports-car2"/>
          <p:cNvPicPr/>
          <p:nvPr/>
        </p:nvPicPr>
        <p:blipFill>
          <a:blip r:embed="rId2"/>
          <a:stretch/>
        </p:blipFill>
        <p:spPr>
          <a:xfrm>
            <a:off x="4724280" y="3505320"/>
            <a:ext cx="4419720" cy="266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2teachllc.com/lessons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aiandra GD"/>
              </a:rPr>
              <a:t>Warm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Think of a verbal or non-verbal strategy from last class that you tried within the last wee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iandra GD"/>
              </a:rPr>
              <a:t>What did you do 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iandra GD"/>
              </a:rPr>
              <a:t>How did it work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iandra GD"/>
              </a:rPr>
              <a:t>What other strategies would you like to try and wh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2209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entury Gothic"/>
              </a:rPr>
              <a:t>Self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33160" y="7621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ges of Co-Teach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red-sports-car2"/>
          <p:cNvPicPr/>
          <p:nvPr/>
        </p:nvPicPr>
        <p:blipFill>
          <a:blip r:embed="rId1"/>
          <a:stretch/>
        </p:blipFill>
        <p:spPr>
          <a:xfrm>
            <a:off x="4724280" y="3505320"/>
            <a:ext cx="44197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ession 4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xplore stages of co-tea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iscover the other sides of co-teach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ur perspective + theirs = shared understand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xplore co-teaching lesson plan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llaboratively discuss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IF…TH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one teacher is doing this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the other teacher can be doing th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2"/>
          <p:cNvSpPr/>
          <p:nvPr/>
        </p:nvSpPr>
        <p:spPr>
          <a:xfrm>
            <a:off x="228600" y="304920"/>
            <a:ext cx="8610480" cy="3504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 Lab/Lesson Plan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2teachllc.com/lessons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066680" y="380880"/>
          <a:ext cx="5639040" cy="3618000"/>
        </p:xfrm>
        <a:graphic>
          <a:graphicData uri="http://schemas.openxmlformats.org/drawingml/2006/table">
            <a:tbl>
              <a:tblPr/>
              <a:tblGrid>
                <a:gridCol w="2576520"/>
                <a:gridCol w="3062520"/>
              </a:tblGrid>
              <a:tr h="103392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Planning Pract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cec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t teacher Lesson Pl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 IEP from both teach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-plan using to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eacher Lesson Pl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3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 IEP from both teach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-plan using to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ignment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e on 4-8-1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Reflective journal posted to Wiki under session 3 about communication and collaboration techniques you tried and how they wo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e on 4-15-1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Incorporate various models of co-teaching into an upcoming lesson plan-post a reflective journal on week 4 on wiki about the model(s)  you chose, why you chose them and what could have been done different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14:43:10Z</dcterms:created>
  <dc:creator>fcps</dc:creator>
  <dc:description/>
  <dc:language>en-US</dc:language>
  <cp:lastModifiedBy>FCPS</cp:lastModifiedBy>
  <dcterms:modified xsi:type="dcterms:W3CDTF">2013-03-26T17:31:55Z</dcterms:modified>
  <cp:revision>20</cp:revision>
  <dc:subject/>
  <dc:title>Making it Work for You and Your Students</dc:title>
</cp:coreProperties>
</file>